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D17-4737-438A-97AB-25083EB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AB9-10BC-43DB-8827-E3EBCBB3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BB8-D3DB-43A4-A8B4-6943977A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7A7-7E23-4223-9121-F733E497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3C7-D927-4212-936B-9D25D3C6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A37-E0AF-4168-AA8C-7FCA1C1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557-911A-4CCE-B4B3-1588BE97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39-0F10-48E8-B80B-C9E9E374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E17-3D94-4E56-B7E5-7425767F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C28-AB88-49B6-9A1D-D0F29E9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ADB-DE88-4051-94B9-213FC85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EA9-D121-4BA1-B063-69508CAD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1903-2A97-498E-89DB-3CCFDA581B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PISA – значительно больше, чем просто рейтинг: это показатель того, насколько хорошо национальные системы образования готовят молодых людей к завтрашнему дню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хель Гурриа, генеральный секретарь ОЭ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ISA (Programme for International Student Assessment) для школ – это разработанный Организацией экономического содружества (сотрудничества) и развития (ОЭСР) инструмент оценки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44792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оверяют- как преподают учите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проверяют уже не школьников, а педагогов и директоров шко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гда проходит.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е проводится каждые пять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 TALIS нет никаких рейтингов преподавателей по странам. Исследователи делают выводы на основе опроса. Какие данные получают? Особенности преподавания, убеждения и установки учителей, методы преподавания, удовлетворенность работой, уверенность в своих профессиональных способностях, контекст, в котором работают учителя и директо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 одном из отчетов отчёте о результатах TALIS  так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 описыва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российских преподавателе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 последние пять лет состав учителей в России стал моложе, но почти 40% наших учителей старше 50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ие учителя реже преподают больше одного предмета и редко меняют место рабо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ие учителя работают больше своих зарубежных коллег и тратят много времени на административную рабо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ие учителя часто «не замечают» неблагополучных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ие учителя предпочитают тестирование другим формам контро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вляет, какой уровень знаний у учеников в средней шко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проверяют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ческую, естественнонаучную и читательскую грамотность школь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то участвует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отличие от PIRLS, в этом исследовании участвуют 15-летние шк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проходи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первые PISA провели в 2000 году, с тех пор оно проводится каждые три года. Россия принимает участие в исследовании с самого начал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следование PISA позволяет оценить эффективность изменений и образовательных решений за три года. По результатам теста становится понятно, в каком направлении нужно развивать российское образование, чтобы повысить конкурентоспособность выпускников российских шко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в PISA показывают себя школьники из 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 сожалению, результаты российских школьников в этом исследовании далеки от первых мест — за всё время Россия ни разу не вошла даже в двадцатку стран по трём показателям. А в  тестировании PISA-2018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 общем рейтинге стран Россия занял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33,30 и 31 место по естественно-научной, математической и читательской грамотности соответствен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3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2514240"/>
            <a:ext cx="82296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есть необходимая платфор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политических решений и их организационная и финансовая поддержка (национальные проекты в области образ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ФГОС , в том числе и третьего поколения, в котором отражены основные тенденции развития образования в ми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итивная динамика образовательных результатов в начальной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нфраструктуры оценки качества образования на различных уров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объективной информации о качестве общего образования в России в сравнении с международными стандар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488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C:\Users\1\Desktop\Снимок экрана 2021-09-18 105443.png"/>
          <p:cNvPicPr/>
          <p:nvPr/>
        </p:nvPicPr>
        <p:blipFill>
          <a:blip r:embed="rId1"/>
          <a:stretch/>
        </p:blipFill>
        <p:spPr>
          <a:xfrm>
            <a:off x="195120" y="114624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ональная грамотнос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не новые знания или грамотности! Это способность использовать знания, умения, способы в действии  при решении широкого круга задач. Функциональная грамотность обнаруживает себ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 пределами учебных ситуац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задачах, не похожих на те, где эти знания, умения, способы приобреталис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ональная грамотность –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пособность применя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обретаемые в течение жизни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нания, умения и навыки для решен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ксимально широкого диапазона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жизненных задач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различных сферах человеческой деятель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75" name="Овал 3"/>
          <p:cNvSpPr/>
          <p:nvPr/>
        </p:nvSpPr>
        <p:spPr>
          <a:xfrm>
            <a:off x="1181160" y="2057400"/>
            <a:ext cx="6858000" cy="40384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3886200" y="3276720"/>
            <a:ext cx="1295280" cy="1143000"/>
          </a:xfrm>
          <a:prstGeom prst="ellipse">
            <a:avLst/>
          </a:prstGeom>
          <a:solidFill>
            <a:srgbClr val="f5f1e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ook Antiqua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Овал 5"/>
          <p:cNvSpPr/>
          <p:nvPr/>
        </p:nvSpPr>
        <p:spPr>
          <a:xfrm>
            <a:off x="3429000" y="2057400"/>
            <a:ext cx="2209680" cy="1143000"/>
          </a:xfrm>
          <a:prstGeom prst="ellipse">
            <a:avLst/>
          </a:prstGeom>
          <a:solidFill>
            <a:srgbClr val="e2d5a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6525"/>
                </a:solidFill>
                <a:latin typeface="Times New Roman"/>
              </a:rPr>
              <a:t>Математическая грамот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Овал 6"/>
          <p:cNvSpPr/>
          <p:nvPr/>
        </p:nvSpPr>
        <p:spPr>
          <a:xfrm>
            <a:off x="5410080" y="2629080"/>
            <a:ext cx="1905120" cy="1104840"/>
          </a:xfrm>
          <a:prstGeom prst="ellipse">
            <a:avLst/>
          </a:prstGeom>
          <a:solidFill>
            <a:srgbClr val="e9e7ed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6525"/>
                </a:solidFill>
                <a:latin typeface="Times New Roman"/>
              </a:rPr>
              <a:t>Естественно-науч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Овал 7"/>
          <p:cNvSpPr/>
          <p:nvPr/>
        </p:nvSpPr>
        <p:spPr>
          <a:xfrm>
            <a:off x="1676520" y="2743200"/>
            <a:ext cx="2209680" cy="1104840"/>
          </a:xfrm>
          <a:prstGeom prst="ellipse">
            <a:avLst/>
          </a:prstGeom>
          <a:solidFill>
            <a:srgbClr val="f4f3f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6525"/>
                </a:solidFill>
                <a:latin typeface="Times New Roman"/>
              </a:rPr>
              <a:t>Читательская грамот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Овал 8"/>
          <p:cNvSpPr/>
          <p:nvPr/>
        </p:nvSpPr>
        <p:spPr>
          <a:xfrm>
            <a:off x="1371600" y="3943440"/>
            <a:ext cx="2133720" cy="1238040"/>
          </a:xfrm>
          <a:prstGeom prst="ellipse">
            <a:avLst/>
          </a:prstGeom>
          <a:solidFill>
            <a:srgbClr val="f5f1e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6525"/>
                </a:solidFill>
                <a:latin typeface="Times New Roman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Овал 9"/>
          <p:cNvSpPr/>
          <p:nvPr/>
        </p:nvSpPr>
        <p:spPr>
          <a:xfrm>
            <a:off x="3429000" y="4495680"/>
            <a:ext cx="2209680" cy="1219320"/>
          </a:xfrm>
          <a:prstGeom prst="ellipse">
            <a:avLst/>
          </a:prstGeom>
          <a:solidFill>
            <a:srgbClr val="dfdae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6525"/>
                </a:solidFill>
                <a:latin typeface="Times New Roman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Овал 10"/>
          <p:cNvSpPr/>
          <p:nvPr/>
        </p:nvSpPr>
        <p:spPr>
          <a:xfrm>
            <a:off x="5410080" y="3733920"/>
            <a:ext cx="2133720" cy="1523880"/>
          </a:xfrm>
          <a:prstGeom prst="ellipse">
            <a:avLst/>
          </a:prstGeom>
          <a:solidFill>
            <a:srgbClr val="c4e0e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56525"/>
                </a:solidFill>
                <a:latin typeface="Times New Roman"/>
              </a:rPr>
              <a:t>Глобальные компетен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Пятно 2 11"/>
          <p:cNvSpPr/>
          <p:nvPr/>
        </p:nvSpPr>
        <p:spPr>
          <a:xfrm>
            <a:off x="6781680" y="1409760"/>
            <a:ext cx="2362320" cy="1638360"/>
          </a:xfrm>
          <a:prstGeom prst="irregularSeal2">
            <a:avLst/>
          </a:prstGeom>
          <a:solidFill>
            <a:srgbClr val="f2f2f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56525"/>
                </a:solidFill>
                <a:latin typeface="Times New Roman"/>
              </a:rPr>
              <a:t>Информа-ционная грамот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Пятно 2 12"/>
          <p:cNvSpPr/>
          <p:nvPr/>
        </p:nvSpPr>
        <p:spPr>
          <a:xfrm>
            <a:off x="-209520" y="5029200"/>
            <a:ext cx="2647800" cy="1862280"/>
          </a:xfrm>
          <a:prstGeom prst="irregularSeal2">
            <a:avLst/>
          </a:prstGeom>
          <a:solidFill>
            <a:srgbClr val="f4f3f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56525"/>
                </a:solidFill>
                <a:latin typeface="Times New Roman"/>
              </a:rPr>
              <a:t>Компьютерная грамот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Пятно 2 13"/>
          <p:cNvSpPr/>
          <p:nvPr/>
        </p:nvSpPr>
        <p:spPr>
          <a:xfrm>
            <a:off x="457200" y="1600200"/>
            <a:ext cx="2324160" cy="1143000"/>
          </a:xfrm>
          <a:prstGeom prst="irregularSeal2">
            <a:avLst/>
          </a:prstGeom>
          <a:solidFill>
            <a:srgbClr val="f4f3f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56525"/>
                </a:solidFill>
                <a:latin typeface="Times New Roman"/>
              </a:rPr>
              <a:t>Налоговая грамот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Пятно 2 14"/>
          <p:cNvSpPr/>
          <p:nvPr/>
        </p:nvSpPr>
        <p:spPr>
          <a:xfrm>
            <a:off x="6095880" y="5257800"/>
            <a:ext cx="2286000" cy="1523880"/>
          </a:xfrm>
          <a:prstGeom prst="irregularSeal2">
            <a:avLst/>
          </a:prstGeom>
          <a:solidFill>
            <a:srgbClr val="f4f3f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652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ctr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ы оценить уровень функциональной грамотности учащихся, нужно дать им нетипичные задания,  в которых предлагается рассмотреть некоторые проблемы из реальной жизни.  Решение этих задач, как правило, требует применения знаний в незнакомой ситуации, поиска новых решений или способов действий, т.е. нацеливает на творческую активност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609480" y="0"/>
            <a:ext cx="785196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1146240" y="-914400"/>
            <a:ext cx="7047000" cy="3127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нистерство просвещения России реализует комплекс мер, направленных на формировани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функциональной грамотности обучающих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Татьяна_Овсиенко_-_Школьная_пора_(-)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75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PIRLS, TIMSS, PISA: международные исследования, в которых участвуют школьники из Росс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 даже в некоторых из них побеждают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-первых, участие в международных исследованиях помогает достаточно объективно оценить уровень образования и сравнить его с другими странами. Во-вторых, если исследование проводится на международном уровне, это значит, что для оценки уровня образования используются самые современные мониторинговые технологии. И Россия может использовать этот опыт в проведении собственных исследований на федеральном и региональном уровн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536400" y="384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проверяют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школьники умеют читать и понимать текс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участвует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исследовании участвуют дети, которые оканчивают начальную школу. В России это четвероклассники. Считается, что именно к этому моменту ученики настолько развивают свои навыки чтения и работы с текстом, что они становятся базой для учёбы в средней и старшей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в PIRLS показывают себя школьники из Рос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 самом первом исследовании PIRLS-2001 Россия заняла только 16-е место из 35 стран. В конце 2017 года появились результаты последнего исследования PIRLS-2016, в котором российские школьник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няли перв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чём это не в первый раз: в 2006 году Россия тоже была лидером. Несмотря на то, что PIRLS проверяет только читательскую грамотность, Сергей Кравцо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твержда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что такие высокие результаты у наших четвероклассников означают, что в российская начальная школа — в принципе лучшая в ми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https://image.mel.fm/i/2/2iY08rIQpd/590.png"/>
          <p:cNvPicPr/>
          <p:nvPr/>
        </p:nvPicPr>
        <p:blipFill>
          <a:blip r:embed="rId1"/>
          <a:stretch/>
        </p:blipFill>
        <p:spPr>
          <a:xfrm>
            <a:off x="517680" y="-103320"/>
            <a:ext cx="788328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проверяют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ая цель исследования — сравнить между собой качество математического и естественнонаучного образования в начальной и средней шк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то участвует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ки 4-х и 8-х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проходит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ые четыре года. Такая схема позволяет отслеживать, какие изменения происходят в образовании при переходе из начальной в основную школу и как они влияют на 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2015 году тестирование TIMSS проводилось и среди 11-классников — тогда у старшеклассников, углубленно изучающих точные предметы, проверяли понимание математики и физ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в TIMSS показывают себя школьники из 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езультаты у российских школьников достаточно высокие. В последнем исследовании 2015 года ученики 4-х классов занял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7-е место по математике и 4-е по естествознан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сьмиклассники оказалис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 6-м месте по математике и на 7-м в естественных наук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о при этом рейтинг выявил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ри большие проблемы российского школь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большой объём домашних заданий, резкое падение успеваемости в средних классах и недовольство учителей своей работ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https://image.mel.fm/i/3/3vUIFNoCKk/590.png"/>
          <p:cNvPicPr/>
          <p:nvPr/>
        </p:nvPicPr>
        <p:blipFill>
          <a:blip r:embed="rId1"/>
          <a:stretch/>
        </p:blipFill>
        <p:spPr>
          <a:xfrm>
            <a:off x="152280" y="79200"/>
            <a:ext cx="4346640" cy="5712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https://image.mel.fm/i/j/j9pknFwq3o/590.png"/>
          <p:cNvPicPr/>
          <p:nvPr/>
        </p:nvPicPr>
        <p:blipFill>
          <a:blip r:embed="rId2"/>
          <a:stretch/>
        </p:blipFill>
        <p:spPr>
          <a:xfrm>
            <a:off x="4705200" y="1305000"/>
            <a:ext cx="41943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Пользователь</cp:lastModifiedBy>
  <dcterms:modified xsi:type="dcterms:W3CDTF">2021-10-12T09:00:3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